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815-F79D-4042-91A1-748D3058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82C-CD6F-4840-8A05-CE2C5A1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358-053A-4727-A62C-E7225C85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AFA-AB7A-404E-B851-2BA10713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A5C2-FEEE-4133-8FE6-D2BBA658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A740-3335-4F56-B857-AA4DF4EC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5746-A6C0-4131-A11B-7AEF7378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34BA-F2DE-44E6-B41C-A9C3AD3F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3970-881B-4335-9303-5BE01BAA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604A-0C3C-4E45-95D0-080F790C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28DD-DC59-445C-B0A7-DECF66F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D23-0D7D-4DD9-86F7-2757E6B3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EBDA-1CF9-48B2-8030-5265CD8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030D-5267-41B5-AEB5-AD90246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B827-F210-4141-8B64-F1E3975C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A1DE-403B-4F51-99AC-EF794E29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2AE2-9636-4126-8F4A-855B8B19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886-6A5B-48F3-B556-C7307A6D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61C-9DB4-413F-9718-B4B65F6E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41C-AAF0-499B-A564-67F81EF5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AEB-2B4B-42DD-8DDA-3B50BA21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CDE-AC54-4289-9417-2F034AF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3B1-AE2F-422C-8C0E-F1788F9D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0CB-8D7B-4D16-BA75-7FBC348C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1367-032D-41C9-882A-2B1B2D41DD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CC2A-9D7D-470C-9237-F9E3FE8D02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23888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Структура бази даних системи дистанційного навчання Moodl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Заспа Г.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29.10.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grade_items (частина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798480"/>
          <a:ext cx="8064360" cy="6230880"/>
        </p:xfrm>
        <a:graphic>
          <a:graphicData uri="http://schemas.openxmlformats.org/drawingml/2006/table">
            <a:tbl>
              <a:tblPr/>
              <a:tblGrid>
                <a:gridCol w="1147680"/>
                <a:gridCol w="1013040"/>
                <a:gridCol w="718920"/>
                <a:gridCol w="5184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ul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incremen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rse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курс з таблиц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rs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до якого належить даний пунк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ія, якій належить даний пун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na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25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ий модулем або введений користуваче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3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mod', 'blocks', 'manual', 'course', 'category'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щ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modu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3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forum', 'quiz', 'csv'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щ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insta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я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num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 бути використаний, щоб розрізнити багато оцінок для одного студента в рамках одного контрольного заход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inf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татки відносно даного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numb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25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ов’язковий і унікальний для курсу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number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аний модуле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ul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(як в електронних таблицях), яка використовується для перетворення "сирих" оцінок в остаточні оцін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4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=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 =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ве значенн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2 =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шкала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3 =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ma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0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а максимально дозволена оцін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m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0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а мінімально дозволена оцін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табл. шкал, якщо оцінка базується на шкал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що ц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ри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utcome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 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p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0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а оцінка потрібна для того, щоб студент зда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grademin &lt;= gradepass &lt;= gradema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9850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912000" cy="45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ана таблиця вміщує інформацію про категорії (categories), які використовуються для групування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пунктів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. Пов’язаний grade_item буде підтримуватися для кожної категорії для збереження агрегованих даних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grade_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ategorie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052640"/>
          <a:ext cx="7992720" cy="5833800"/>
        </p:xfrm>
        <a:graphic>
          <a:graphicData uri="http://schemas.openxmlformats.org/drawingml/2006/table">
            <a:tbl>
              <a:tblPr/>
              <a:tblGrid>
                <a:gridCol w="1551600"/>
                <a:gridCol w="1035720"/>
                <a:gridCol w="664920"/>
                <a:gridCol w="4740480"/>
              </a:tblGrid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ul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incremen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rse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частиною якого є дана категорія оцінк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rade category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батьківську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_category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ієрархії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бина даної категорії від найвищого рівн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,2,3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25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ує шлях я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/1/2/3/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na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25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даної категорії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greg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, що вказує на одну з наперед заданих стратегій агрегуванн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hig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имує тільк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вищих пункті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лучає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нижчих пункті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gregateonlygrad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ує тільки існуючі оцінк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gregateoutco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ує результати разом з нормальними пункт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gregatesubca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ує тільки пункти, розміщені напряму в категорії або всі пункти в підкатегоріях, виключаюч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s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катего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crea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, кол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ла створе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modifi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ній час, коли дан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ла зміне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de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В таблиці записуються індивідуальні оцінки для кожного студента і кожного </a:t>
            </a:r>
            <a:r>
              <a:rPr b="0" i="1" lang="uk-UA" sz="1900" spc="-1" strike="noStrike">
                <a:solidFill>
                  <a:srgbClr val="000000"/>
                </a:solidFill>
                <a:latin typeface="Verdana"/>
              </a:rPr>
              <a:t>пункту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. "Сирі" оцінки відповідають значенням, безпосередньо проставленим при оцінюванні.  rawgrademax/min та rawscaleid зберігаються для запису відповідних значень в час збереження оцінки; викладачі можуть змінювати їх! Всі результати нормалізовані/обраховані для кінцевої оцінки, яка є відносною до max/min/scaleid значень, збережених в grade_item. Поле finalgrade кешується і значення змінюються кожного разу, коли "сирі" значення grade_item змінюються. Потрібно мати на увазі, що кінцева оцінка може бути не цілою – потрібно округлити її для показу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115920"/>
            <a:ext cx="7313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grade_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de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765000"/>
          <a:ext cx="7993080" cy="7364160"/>
        </p:xfrm>
        <a:graphic>
          <a:graphicData uri="http://schemas.openxmlformats.org/drawingml/2006/table">
            <a:tbl>
              <a:tblPr/>
              <a:tblGrid>
                <a:gridCol w="1305000"/>
                <a:gridCol w="914400"/>
                <a:gridCol w="677520"/>
                <a:gridCol w="5096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ult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incremen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i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до якого відноситься оці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i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студента, якому виставлено оцінк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gra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1,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ира" оцінка, введена в систе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gradema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1,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 можлива оцінка в час введення оцін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gradem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1,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німально можлива оцінка в час введення оцін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scalei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табл. шкал, якщо оцінка базується на шкал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modifie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користувача, який останнім змінював сиру оцін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gra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1,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ня оцінка після проведення всіх обрахунк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dd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не прихована, 1 – завжди прихована, &gt; 1 – дата, до якої приховува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ke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не заблокована, &gt; 0 – коли оцінка була заблокова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ktim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- ніколи, &gt; 0 – дата, після якої автоматично блокуватиметься кінцева оці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не експортується, &gt; 0 – остання дата експорт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lud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виключається з агрегації, &gt; 0 – остання дата експорт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ridd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не перевизначена, &gt; 0 – остання дата перевизнач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чний зворотній зв’язок від викладача. Може бути кодом типу 'mi'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ий формат для зворотного зв’язк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ed yet (Further information like forum rating distribution 4/5/7/0/1 ?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ий формат для інформації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crea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часова вставка –в наступній версії очікується нове по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modifi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часова вставка –в наступній версії очікується нове по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Структура БД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od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6582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аза даних складається зі 198 таблиц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47640" y="2060640"/>
          <a:ext cx="7201080" cy="4746600"/>
        </p:xfrm>
        <a:graphic>
          <a:graphicData uri="http://schemas.openxmlformats.org/drawingml/2006/table">
            <a:tbl>
              <a:tblPr/>
              <a:tblGrid>
                <a:gridCol w="2401920"/>
                <a:gridCol w="2397240"/>
                <a:gridCol w="2401920"/>
              </a:tblGrid>
              <a:tr h="478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фігураці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fi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fig_plugi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истувачі та їх профіл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info_catego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info_fiel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info_da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lastacces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preferenc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private_ke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лі та права в систем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bili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allow_assig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allow_overri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allow_swit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assignme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capabilit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context_level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nam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sort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вчальні курси та їх організація в категорі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categor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displ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me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requ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оди та їх при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зка до кур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u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allowed_modu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modu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secti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пи та групув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s_mem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ing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ings_group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бло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_inst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_pinn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s_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_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ging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_dis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і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_*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ndl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ue_handl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ервні копії і віднов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confi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cours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fi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i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lo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ти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dai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month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user_dai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user_month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user_week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week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g_corre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g_in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Структура БД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od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70160" y="1628640"/>
          <a:ext cx="7313400" cy="4959360"/>
        </p:xfrm>
        <a:graphic>
          <a:graphicData uri="http://schemas.openxmlformats.org/drawingml/2006/table">
            <a:tbl>
              <a:tblPr/>
              <a:tblGrid>
                <a:gridCol w="2439720"/>
                <a:gridCol w="2433600"/>
                <a:gridCol w="2440080"/>
              </a:tblGrid>
              <a:tr h="49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урнал оцін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categ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categories_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grades_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import_new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import_val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items_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let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outc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outcomes_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outcomes_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set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повідомл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з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le_histo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s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zo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нк пита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answ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attemp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categor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set_defin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set_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s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ch_su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cal_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sam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sessi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повідомл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ежа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od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assign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st2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2rp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o_access_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_e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_lo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_p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іплення студентів за предмет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autho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authorize_refu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pay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ешув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ch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ch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ch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Структура БД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odle (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одулі видів навчальної діяльності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2000" y="1700280"/>
          <a:ext cx="7313400" cy="4989600"/>
        </p:xfrm>
        <a:graphic>
          <a:graphicData uri="http://schemas.openxmlformats.org/drawingml/2006/table">
            <a:tbl>
              <a:tblPr/>
              <a:tblGrid>
                <a:gridCol w="2440080"/>
                <a:gridCol w="2433600"/>
                <a:gridCol w="243972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вд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ment_sub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t_mess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t_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бі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oice_answ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oice_op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fiel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rec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у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discu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p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que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r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subscrip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track_pre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лосарі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al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categ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e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entries_categ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atte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deta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respo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str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answ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attem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bra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defa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high_sc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p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ti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attem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question_inst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question_ver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урс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co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coes_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coes_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map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obj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rollupr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rolluprulec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rulec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rul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гля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_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_answ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_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Структура БД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odle (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одулі видів навчальної діяльності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2439720"/>
                <a:gridCol w="2433600"/>
                <a:gridCol w="244008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мін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assess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rubr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stock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sub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Схема частини БД, яка стосується оціно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76360" y="1628640"/>
          <a:ext cx="67579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7579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сновні визначення, що стосуються оціно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87280" y="1628640"/>
          <a:ext cx="7496280" cy="4930560"/>
        </p:xfrm>
        <a:graphic>
          <a:graphicData uri="http://schemas.openxmlformats.org/drawingml/2006/table">
            <a:tbl>
              <a:tblPr/>
              <a:tblGrid>
                <a:gridCol w="1513080"/>
                <a:gridCol w="598320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мі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значення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ід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ин контрольний захід (наприклад, тест, завдання тощ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тегорія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бір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ів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. Категорія також має агреговану оцінку, яка вираховується з її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ів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. Нема обмежень на рівень вкладеності категорій (категорія може належати іншій категорії). Однак, один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 оцінювання може належати тільки до однієї категорії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рахунок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ула, що використовується для обрахунку оцінок, базованих (необов’язково) на інших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ах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 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ходження курсу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тя задоволення певним критеріям для успішного завершення курсу з відповідною атестацією. В контексті оцінювання це означає наявність набору оцінок, які повинні бути одержані, або певна кількість результатів/компетенцій, які повинні бути досягнуті/здобуті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і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інка – результат одиночної перевірки знань. Це може бути число чи пункт шкали (пов’язаний з Результатом). "Сира" оцінка є числовою чи шкальною оцінкою Заходу. Кінцева оцінка є оцінкою, відображено в Журналі Оцінок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book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урнал Оці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нтральне місце в Moodle, де зберігаються і відображуються Оцінки студентів. Викладачі можуть вести записи про поточні здобутки студентів і визначати, який набір Оцінок їх студенти бачитимуть. Студенти можуть бачити власні оцінк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сновні визначення, що стосуються оцінок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87280" y="1827360"/>
          <a:ext cx="7496280" cy="3868560"/>
        </p:xfrm>
        <a:graphic>
          <a:graphicData uri="http://schemas.openxmlformats.org/drawingml/2006/table">
            <a:tbl>
              <a:tblPr/>
              <a:tblGrid>
                <a:gridCol w="1659240"/>
                <a:gridCol w="5837040"/>
              </a:tblGrid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мі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значення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"Колонка" Оцінок. Він може бути створений з певного Заходу або іншого модуля, обрахований з іншого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у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 або введений вручн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r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Історі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урнал Оцінок має власний тип логу, який вміщує історію всіх змін в оцінка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com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и - опис того, що студент повинен бути здатним розуміти чи виконувати по завершенню заходу чи курсу. Захід може мати більше одного результату і кожен з них може мати окрему оцінку (як правило, за шкалою). Іншим терміном для Результатів є Компетенції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l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кал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кала – це набір термінів, з яких викладач може вибрати один для оцінки, наприклад Дуже добре, Добре, Досить добре, Не дуже добре тощ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tter Gr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квенні 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іальне представлення оцінок, близьке до Шкали. Букви визначаються нижніми границями оцінок, наприклад A (вище 90 %), B (вище 80 %), C (вище 70 %), D (вище 50 %), F (вище 0 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grade_item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блиця містить інформації про </a:t>
            </a:r>
            <a:r>
              <a:rPr b="0" i="1" lang="uk-UA" sz="2500" spc="-1" strike="noStrike">
                <a:solidFill>
                  <a:srgbClr val="000000"/>
                </a:solidFill>
                <a:latin typeface="Verdana"/>
              </a:rPr>
              <a:t>пункти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контролю, за якими виставляються оцінки (один </a:t>
            </a:r>
            <a:r>
              <a:rPr b="0" i="1" lang="uk-UA" sz="2500" spc="-1" strike="noStrike">
                <a:solidFill>
                  <a:srgbClr val="000000"/>
                </a:solidFill>
                <a:latin typeface="Verdana"/>
              </a:rPr>
              <a:t>пункт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відповідає одному стовпчику з оцінками). Якщо певний контрольний захід (письмове завдання чи тест) має декілька </a:t>
            </a:r>
            <a:r>
              <a:rPr b="0" i="1" lang="uk-UA" sz="2500" spc="-1" strike="noStrike">
                <a:solidFill>
                  <a:srgbClr val="000000"/>
                </a:solidFill>
                <a:latin typeface="Verdana"/>
              </a:rPr>
              <a:t>пунктів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контролю асоційованих з ним (тобто декілька окремих результатів, окремо оцінених числовими показниками), то це відображуватиметься відповідною кількістю рядків в таблиці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6:37:02Z</dcterms:created>
  <dc:creator>Mast</dc:creator>
  <dc:description/>
  <dc:language>en-US</dc:language>
  <cp:lastModifiedBy>Mast</cp:lastModifiedBy>
  <dcterms:modified xsi:type="dcterms:W3CDTF">2009-10-29T12:49:29Z</dcterms:modified>
  <cp:revision>26</cp:revision>
  <dc:subject/>
  <dc:title>Структура бази даних системи дистанційного навчання Mood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